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520" y="744480"/>
            <a:ext cx="4948200" cy="3711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"/>
          </p:nvPr>
        </p:nvSpPr>
        <p:spPr>
          <a:xfrm>
            <a:off x="3851280" y="9429480"/>
            <a:ext cx="2936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551A9-DAFC-4445-A35A-D4E07228347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1FF1C-2C13-4CE5-8867-2C6FDDB71AA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0B1FF-6AB4-4C52-9E4B-B5ED7B1CDE1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851280" y="9429840"/>
            <a:ext cx="2940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5C4D3-43CE-4CFE-8826-52E5154D65F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281480" y="10229760"/>
            <a:ext cx="32781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E3B5A-5D16-4133-B3C8-6FDF3465189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281480" y="10229760"/>
            <a:ext cx="3279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B7685-E406-47FF-9475-13487D93EF2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85272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9831-F8B1-4552-93F7-A773829B121B}" type="slidenum">
              <a:rPr b="0" lang="cs-CZ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528CC-9E59-46F9-80EC-AC4A19499C2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B8A72-1D86-47E5-925A-4B57AA55929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3851280" y="9429840"/>
            <a:ext cx="2940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200AC-3355-40BB-B038-10DC3568D53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281480" y="10229760"/>
            <a:ext cx="32781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C3A63-A747-42D1-A3B8-5F46BA1CBA1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281480" y="10229760"/>
            <a:ext cx="3279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4D3FA-24B5-43B0-9F06-9CD9633D796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5272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9456A-370B-471F-A22E-44E336A2608F}" type="slidenum">
              <a:rPr b="0" lang="cs-CZ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20670-7480-4B65-BA75-F1EEEAC7E44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AF4B7-1975-4394-9914-32686990106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3A586-FEE5-4930-8F5C-184CA04C5C0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8C8C8-38C4-4814-B33C-1ADF8072F73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CFA1D-1313-467A-9C30-8CA3CDA80F6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99B20-A993-4FEB-BDE4-34B1241D317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DF47D-82A5-4583-A33C-5F2E954694A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A90A-684B-4328-8D91-967BD3AC9B8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C7694-20F3-423C-91EC-91DFE27DF63D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CEC00-AE6D-471A-9096-899B0048BC5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A3ECB-6967-4592-B27C-15E2851F776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661D4-E3D4-47AB-81B1-CF072C7B8191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A0778-9BC7-40AA-8484-5762EAC0E94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D7591-A97B-4E27-B789-C1DDAC5AB4B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3BFF2-A20F-4B38-B1F6-5EBC77D9B45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B6525-679A-4807-8BBB-2CD9496BEB3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6D05D-5BBB-4DA6-BCAE-68D63E060DF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DD7B4-F30B-407D-973D-57B599F855D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427A0-E1DA-458E-8EA6-D16AE7D828B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59E9C-AD7E-45EC-89B3-7EF2226EB89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1CEAD-0BDF-49AF-BFBA-42B09FDAF568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3851280" y="9429840"/>
            <a:ext cx="2936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F01B0-F797-4051-BC3C-3D1C1C8EDE9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1280" y="9429840"/>
            <a:ext cx="293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122D-8B11-450C-BA8C-AA3705DBAD3F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CBA26-6C83-4BBF-B72C-AFEFD9546A7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Text Box 4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02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59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02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67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59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02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socialni-zaclenovani.cz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hyperlink" Target="http://www.socialni-zaclenovani.cz/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socialni-zaclenovani.cz/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942240" y="6356520"/>
            <a:ext cx="216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1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ocialni-zaclenovani.cz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942240" y="6356520"/>
            <a:ext cx="21603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1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ocialni-zaclenovani.cz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6942240" y="6356520"/>
            <a:ext cx="216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1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ocialni-zaclenovani.cz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755640" y="1916280"/>
            <a:ext cx="756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073160" y="3213000"/>
            <a:ext cx="73864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alizace Koordinovaného přístupu v sociálně vyloučených lokalitách a vazba na Integrovaný regionální operační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Radka Soukupov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pověřená ředitelk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gionální stálá konference, Karlovy Vary 24.10.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755640" y="1916280"/>
            <a:ext cx="756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2058840"/>
            <a:ext cx="561636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Arial"/>
              </a:rPr>
              <a:t>Děkuji za pozorn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ng. Radka Soukupov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oukupova.radka@vlada.c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 (KPSV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 spolupráce s ASZ vstoupilo k říjnu 2017 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47 lokali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obcí nebo svazků obcí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rámci KPSVL bude navázána spolupráce minimálně 70 lokalitám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 KPSVL jsou zapojeny obce, které předpokládají využití finančních prostředků z více jak jednoho operačního programu → koordinovaný přístup vychází z provázaní jednotlivých investičních akcí, nutná komplementarita na jednotlivé výzvy operačních programů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olupráce nastavena s operačními programy OP VVV, OP Z a IR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erpání prostředků ESIF pro potřeby KPSVL upravuje Metodika koordinovaného přístupu k sociálně vyloučeným lokalitám (schválena Radou vlády pro záležitosti romské komunity, odsouhlasena všemi řídícími orgán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4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ve vazbě na IROP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341000"/>
            <a:ext cx="82249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Z koordinuje investiční aktivity v jednotlivých lokalitách dle harmonogramů operačních programů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případě IROP vycházel plán investičních aktivit KPSVL z harmonogramu výzev pro roky 2016, 2017 a 20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le IROP je nezastupitelná ve smyslu podpory investičních akcí, na které navazují komplementární (tzv. měkké) projekty OP Z a OP VV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 potřeby KPSVL IROP poskytuje podporu v aktivitách infrastruktury sociálních služeb, komunitních center, sociálního bydlení, sociálního podnikání a v oblasti předškolního, základního, středního a neformálního vzděláván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ve vazbě na IRO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roce 2016 vyhlášeny první výzvy IROP na podporované aktivity sociálního začleňování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le metodiky KPSVL vždy vyčleněna alokace pro potřeby lokalit realizujících KPSV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ávání jednotlivých projektových žádostí v rámci KPSVL probíhá postupně, dle zveřejněných výzev, podmínek podpory a také plánu realizace projektů ve Strategických plánech sociálního začleňování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Z vycházela při plánování zapojení jednotlivých lokalit z platného harmonogramu výzev IROP pro roky 2017 a dá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 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ve vazbě na IR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604520"/>
            <a:ext cx="83581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prosinci 2016 ŘO IROP oznámil změnu v harmonogramu pro rok 2017 a dá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šlo ke zrušení všech plánovaných výzev pro předkládání individuálních projektů a vyčerpání celkové alokace pro jednotlivé aktiv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měna harmonogramu výzev nebyla projednána v rámci Monitorovacího výboru IROP, ani platformy pro plánování výzev, bez možnosti vyjádření se zainteresovaných subjektů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 rok 2017 plánována pouze výzva na podporu sociálního bydlení a polyfunkčních komunitních center a dále začátkem roku 2018 bude vyhlášena výzva na vybrané sociální služb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ve vazbě na Integrované nástroj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484280"/>
            <a:ext cx="82249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 ledna 2017 proběhlo několik jednání se zástupci ŘO IROP a také se zástupci E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 prvních jednání bylo ze strany ŘO IROP doporučováno využití Integrovaných nástrojů pro projekty KPSV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Z provedlo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nalýzu možnost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yužití integrovaných nástrojů pro potřeby KPSV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izik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tegrované strategie jsou již nadefinovan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okace jednotlivých strategií odpovídá již identifikovaným potřebá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ciální inkluze není vždy podporovanou aktivit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- budoucí výzvy IR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Z navrhla na Monitorovacím výboru IROP 8. 6. 2017 přesunutí 500 mil. Kč do oblasti sociálních služeb,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návrhu nebylo členy MoV vyhověn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y jednání s ŘO IROP ze září 2017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istopad/prosinec 2017  - vyhlášení výzvy na podporu sociálního bydl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řezen 2018 -  vyhlášení výzvy na podporu vybraných sociálních služeb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alokace 350 mil. pro SVL, z toho bude na základě poptávky určena alokace výhradně pro KPSV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ec roku 2018 – vyhlášení tzv. kontinuální výzvy pouze pro KPSVL (sociální služby, komunitní centra) (alokace cca. 200 mil. K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- vazba na M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ŘO IROP doporučil ASZ orientaci na MAS a jejich jednotlivé výzvy v oblasti sociálních služ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ámitky AS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ízká alokace v jednotlivých výzvách pro oblast sociálních služeb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notlivé cíle strategií MAS jsou již nastavovány a realizován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lokalitách se SVL byly jednotlivé strategie (KPSVL, MAS) tvořeny, tak aby došlo k diverzifikaci zdrojů (prevence duplicitního financ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 vazbě na doporučení ŘO IROP doporučuje ASZ společné jednání zástupců MAS, ASZ a ŘO IROP o možném využití finančních zdrojů alokovaných pro M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>
            <a:off x="468360" y="1700280"/>
            <a:ext cx="8207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oordinovaný přístup k sociálně vyloučeným lokalitám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- překryv KPSVL a CLL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971640" y="1716120"/>
            <a:ext cx="74422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55:07Z</dcterms:created>
  <dc:creator>eva</dc:creator>
  <dc:description/>
  <dc:language>en-US</dc:language>
  <cp:lastModifiedBy>Soukupová Radka</cp:lastModifiedBy>
  <cp:lastPrinted>2016-03-21T15:37:42Z</cp:lastPrinted>
  <dcterms:modified xsi:type="dcterms:W3CDTF">2017-10-23T12:46:48Z</dcterms:modified>
  <cp:revision>138</cp:revision>
  <dc:subject/>
  <dc:title>Slide 1</dc:title>
</cp:coreProperties>
</file>