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B43-0D3C-4F91-AED9-423402D4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ED1-25BE-4450-9FA2-5ED08477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173-7C5D-4E8B-BB84-669904F3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221-335F-4C87-A593-51AE5322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C66-5496-4F5B-8474-95F28182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DD5-ACCC-49A8-9B5C-D57FD4C1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A6D-E2B2-4726-8924-8A31D0F3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6FA-BDD2-4828-9E22-EB472B48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B07-9745-4EA1-9232-FD77A13B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755-4FC8-4047-830A-51E75CD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24A-1A54-43A4-B44F-F5DDC976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A42-0852-4F18-9A78-1748B495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854B-F0ED-4BB0-8881-D960909D5B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p.kulhanek@mmkv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ffffff"/>
                </a:solidFill>
                <a:latin typeface="HelveticaNeueLT Pro 67 MdCn"/>
              </a:rPr>
              <a:t>Integrovaný plán rozvoje území</a:t>
            </a:r>
            <a:br>
              <a:rPr sz="4900"/>
            </a:br>
            <a:r>
              <a:rPr b="1" lang="cs-CZ" sz="4900" spc="-1" strike="noStrike">
                <a:solidFill>
                  <a:srgbClr val="ffffff"/>
                </a:solidFill>
                <a:latin typeface="HelveticaNeueLT Pro 67 MdCn"/>
              </a:rPr>
              <a:t>Karlovy Vary</a:t>
            </a:r>
            <a:br>
              <a:rPr sz="4900"/>
            </a:b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3886200"/>
            <a:ext cx="67690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67 MdCn"/>
              </a:rPr>
              <a:t>Regionální stálá konference Karlovarského kr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HelveticaNeueLT Pro 47 LtCn"/>
              </a:rPr>
              <a:t>24. 10. 2017, Krajský úřad Karlovarského kr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Schválené projektové zám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1079640" y="3716280"/>
          <a:ext cx="7740360" cy="2666880"/>
        </p:xfrm>
        <a:graphic>
          <a:graphicData uri="http://schemas.openxmlformats.org/drawingml/2006/table">
            <a:tbl>
              <a:tblPr/>
              <a:tblGrid>
                <a:gridCol w="1935000"/>
                <a:gridCol w="1935360"/>
                <a:gridCol w="1935000"/>
                <a:gridCol w="1935000"/>
              </a:tblGrid>
              <a:tr h="36972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ÁKLADNÍ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to Nová 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mediální a jazyková učeb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podá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Š Poštovní – Příroda mého okol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podána, realizuje 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Š Kol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ební úpra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podá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062000" y="1341360"/>
          <a:ext cx="7740720" cy="1930320"/>
        </p:xfrm>
        <a:graphic>
          <a:graphicData uri="http://schemas.openxmlformats.org/drawingml/2006/table">
            <a:tbl>
              <a:tblPr/>
              <a:tblGrid>
                <a:gridCol w="1935360"/>
                <a:gridCol w="1935000"/>
                <a:gridCol w="1935000"/>
                <a:gridCol w="1935360"/>
              </a:tblGrid>
              <a:tr h="37044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BU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P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ízení nízkoemisních bezbariérových vozi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Schválené projektové zám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079640" y="1341360"/>
          <a:ext cx="7740360" cy="3851280"/>
        </p:xfrm>
        <a:graphic>
          <a:graphicData uri="http://schemas.openxmlformats.org/drawingml/2006/table">
            <a:tbl>
              <a:tblPr/>
              <a:tblGrid>
                <a:gridCol w="1935000"/>
                <a:gridCol w="1935360"/>
                <a:gridCol w="1935000"/>
                <a:gridCol w="1935000"/>
              </a:tblGrid>
              <a:tr h="3711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ŘEDNÍ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řední škola logistická Dalo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valitnění infrastruktury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a SOŠ Ch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ce jazykové výu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podá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Ostr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ce chemické laborato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podá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řední průmyslová škola Lo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ce stavebních a výpočetních ob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podá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Schválené projektové zám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079640" y="1341360"/>
          <a:ext cx="7740360" cy="4216320"/>
        </p:xfrm>
        <a:graphic>
          <a:graphicData uri="http://schemas.openxmlformats.org/drawingml/2006/table">
            <a:tbl>
              <a:tblPr/>
              <a:tblGrid>
                <a:gridCol w="1935000"/>
                <a:gridCol w="1935360"/>
                <a:gridCol w="1935000"/>
                <a:gridCol w="1935000"/>
              </a:tblGrid>
              <a:tr h="36828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ÁLNÍ INFRASTRUK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88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US Mladá Bolesl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tvoření kapacity v oblasti bydlení  pro osoby se závažným duševním onemocněním v aglomeraci IPRÚKV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ntura domácí péče LAD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ební úpravy a vybavení zázemí pro poskytování sociálních služ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Schválené projektové zám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Struktura předkladatelů projektových zámě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Graf 7" descr=""/>
          <p:cNvPicPr/>
          <p:nvPr/>
        </p:nvPicPr>
        <p:blipFill>
          <a:blip r:embed="rId2"/>
          <a:stretch/>
        </p:blipFill>
        <p:spPr>
          <a:xfrm>
            <a:off x="1328760" y="2060640"/>
            <a:ext cx="74372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Schválené projektové zám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Struktura realizace projektových zámě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Graf 8" descr=""/>
          <p:cNvPicPr/>
          <p:nvPr/>
        </p:nvPicPr>
        <p:blipFill>
          <a:blip r:embed="rId2"/>
          <a:stretch/>
        </p:blipFill>
        <p:spPr>
          <a:xfrm>
            <a:off x="1401840" y="2060640"/>
            <a:ext cx="727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Klíčové momenty IPRÚ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předložena 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Zpráva o plnění IPRÚKV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za 1. (zkrácené) pololetí realizace (leden 2017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za 1. úplné 1. pololetí roku 2017 (červenec 201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navrženy 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úpravy integrované strate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úpravy finančního plánu a indikátorů, lepší vymezení okruhu způsobilých příjemc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úpravy popisu způsobů implementace (lhůty, termí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zaktualizován 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Operační manuál nosit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probíhají pravidelná 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jednání aglomerací IPRÚ 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(na úrovni manažerů i primátor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probíhají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průběžná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 jednání s MMR-ORP a s Řídicími orgány operačních program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probíhají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 konzultace žad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0920" y="105228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HelveticaNeueLT Pro 67 MdCn"/>
              </a:rPr>
              <a:t>Děkuji za pozornost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0560" y="3284640"/>
            <a:ext cx="57214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67 MdCn"/>
              </a:rPr>
              <a:t>Ing. Petr Kulhán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HelveticaNeueLT Pro 67 MdCn"/>
                <a:hlinkClick r:id="rId1"/>
              </a:rPr>
              <a:t>p.kulhanek@mmkv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S:\OLKV\Andrusczynová - záloha\externi_p\LOGA\KV_nové-logo\prezentace\prezentace1.jpg"/>
          <p:cNvPicPr/>
          <p:nvPr/>
        </p:nvPicPr>
        <p:blipFill>
          <a:blip r:embed="rId2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Aktuální stav IPRÚ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realizace IPRÚKV° spuštěna na konci roku 2016 po schválení ministerst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umožňuje financování projektů 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HelveticaNeueLT Pro 47 LtCn"/>
              </a:rPr>
              <a:t>Integrovaného regionálního operačního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HelveticaNeueLT Pro 47 LtCn"/>
              </a:rPr>
              <a:t>Operačního programu Zaměstna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HelveticaNeueLT Pro 47 LtCn"/>
              </a:rPr>
              <a:t>Operačního programu Dopr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celková rezervovaná alokace: 1,3 mld. K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první výzvy nositele k předkládání projektových záměrů začalo vyhlašovat město na konci roku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dosud ve fázi realizace proběhlo 8x řádné jednání Řídicího výboru a 6x hlasování per roll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dosud proběhlo ve fázi realizace 23 jednání pracovních skup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Ukončené výzvy nosite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87320" y="1125360"/>
          <a:ext cx="8355240" cy="5567400"/>
        </p:xfrm>
        <a:graphic>
          <a:graphicData uri="http://schemas.openxmlformats.org/drawingml/2006/table">
            <a:tbl>
              <a:tblPr/>
              <a:tblGrid>
                <a:gridCol w="432000"/>
                <a:gridCol w="2278080"/>
                <a:gridCol w="1100160"/>
                <a:gridCol w="2050920"/>
                <a:gridCol w="2494080"/>
              </a:tblGrid>
              <a:tr h="3765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ýz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 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y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ávěr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á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1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12.´16-17.01.´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kladatelé odstoupi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ální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12.´16-17.01.´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dsouhlasené zámě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má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2.-06.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dsouhlasený zámě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2.-06.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dsouhlasené zámě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klodo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2.-06.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odsouhlasené zámě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ávání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1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3.-30.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dsouhlasené zámě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in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6.-16.0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dsouhlasený zámě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6.-16.0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odsouhlasené zámě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bu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6.-16.0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dsouhlasený zámě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mátky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6.-16.0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dsouhlasený zámě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řední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6.-16.0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odsouhlasené zámě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ladní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6.-16.0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odsouhlasené zámě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ávání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1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6.-31.0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odsouhlasené zámě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ální infrastruk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.-30.0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dsouhlasené zámě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Probíhající výzvy nosite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187280" y="1569960"/>
          <a:ext cx="7704360" cy="1859040"/>
        </p:xfrm>
        <a:graphic>
          <a:graphicData uri="http://schemas.openxmlformats.org/drawingml/2006/table">
            <a:tbl>
              <a:tblPr/>
              <a:tblGrid>
                <a:gridCol w="492120"/>
                <a:gridCol w="1757520"/>
                <a:gridCol w="1263600"/>
                <a:gridCol w="1636920"/>
                <a:gridCol w="2554200"/>
              </a:tblGrid>
              <a:tr h="3762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ýz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 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y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ávěr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klodoprava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9.-13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0. byla PS, bude Ř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atika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9.-13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0. byla PS, bude Ř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ální bydl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0.-07.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íh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nic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0.-07.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íh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Plán dalších výzev nosite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termíny možno přizpůsobit potřebám žadatelů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silnice konzultovány s KSÚ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střední školy – prosíme upřesnění požadavků dle K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187280" y="981000"/>
          <a:ext cx="7704360" cy="4618080"/>
        </p:xfrm>
        <a:graphic>
          <a:graphicData uri="http://schemas.openxmlformats.org/drawingml/2006/table">
            <a:tbl>
              <a:tblPr/>
              <a:tblGrid>
                <a:gridCol w="1878120"/>
                <a:gridCol w="1349280"/>
                <a:gridCol w="2244960"/>
                <a:gridCol w="2232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ýz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 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dhad termí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dhad alokace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odíl 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opad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2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klodo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opad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5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bu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ěten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0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in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opad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opad 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1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1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má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opad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,0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ladní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opad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6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řední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opad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á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1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den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3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ální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den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ikální dopra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D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íjen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Schválené projektové zám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96920" y="1197000"/>
          <a:ext cx="7740720" cy="2027160"/>
        </p:xfrm>
        <a:graphic>
          <a:graphicData uri="http://schemas.openxmlformats.org/drawingml/2006/table">
            <a:tbl>
              <a:tblPr/>
              <a:tblGrid>
                <a:gridCol w="1935360"/>
                <a:gridCol w="1935000"/>
                <a:gridCol w="1935000"/>
                <a:gridCol w="1935360"/>
              </a:tblGrid>
              <a:tr h="3715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ÁLNÍ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am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khet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uje 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cepční přístup k řešení sociální exklu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uje 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068480" y="4076640"/>
          <a:ext cx="7740720" cy="2570400"/>
        </p:xfrm>
        <a:graphic>
          <a:graphicData uri="http://schemas.openxmlformats.org/drawingml/2006/table">
            <a:tbl>
              <a:tblPr/>
              <a:tblGrid>
                <a:gridCol w="1935000"/>
                <a:gridCol w="1935360"/>
                <a:gridCol w="1935000"/>
                <a:gridCol w="1935360"/>
              </a:tblGrid>
              <a:tr h="3711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L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Ú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ce silnice – průtah Foj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1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ká se na Rozhodnutí, realizuje 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Ú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ce silnice Fojtov – Děpolto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ká se na Rozhodnutí, realizuje 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Schválené projektové zám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096920" y="1197000"/>
          <a:ext cx="7740720" cy="4491000"/>
        </p:xfrm>
        <a:graphic>
          <a:graphicData uri="http://schemas.openxmlformats.org/drawingml/2006/table">
            <a:tbl>
              <a:tblPr/>
              <a:tblGrid>
                <a:gridCol w="1935360"/>
                <a:gridCol w="1935000"/>
                <a:gridCol w="1935000"/>
                <a:gridCol w="1935360"/>
              </a:tblGrid>
              <a:tr h="3711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MĚSTNÁ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řské centrum 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cestě k úspěc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ká se na Rozhodnutí, těsně před realiza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ujte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pší přístup k zaměstnávání pro osoby do 25 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uje 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-SCHOOL Const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é příležitosti pro každ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 podáním žád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dišt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pět do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 podáním žád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NI TEMP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ně na trh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 podáním žád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Schválené projektové zám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96920" y="1197000"/>
          <a:ext cx="7740720" cy="2570040"/>
        </p:xfrm>
        <a:graphic>
          <a:graphicData uri="http://schemas.openxmlformats.org/drawingml/2006/table">
            <a:tbl>
              <a:tblPr/>
              <a:tblGrid>
                <a:gridCol w="1935360"/>
                <a:gridCol w="1935000"/>
                <a:gridCol w="1935000"/>
                <a:gridCol w="1935360"/>
              </a:tblGrid>
              <a:tr h="3711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MÁ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konstrukce střechy divad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důvodu prodlev ve VŘ bude předloženo znovu do nové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nova Goethovy vyhlíd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068480" y="4076640"/>
          <a:ext cx="7740720" cy="2662200"/>
        </p:xfrm>
        <a:graphic>
          <a:graphicData uri="http://schemas.openxmlformats.org/drawingml/2006/table">
            <a:tbl>
              <a:tblPr/>
              <a:tblGrid>
                <a:gridCol w="1935000"/>
                <a:gridCol w="1935360"/>
                <a:gridCol w="1935000"/>
                <a:gridCol w="1935360"/>
              </a:tblGrid>
              <a:tr h="3711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YKLOSTEZ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dr Ohře – Tuhnická lá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bský – Dvorský 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1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šovice – Dv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Schválené projektové zám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096920" y="1197000"/>
          <a:ext cx="7740720" cy="2205000"/>
        </p:xfrm>
        <a:graphic>
          <a:graphicData uri="http://schemas.openxmlformats.org/drawingml/2006/table">
            <a:tbl>
              <a:tblPr/>
              <a:tblGrid>
                <a:gridCol w="1935360"/>
                <a:gridCol w="1935000"/>
                <a:gridCol w="1935000"/>
                <a:gridCol w="1935360"/>
              </a:tblGrid>
              <a:tr h="3715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IN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tupní uzel Horní nádraž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2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důvodu realizace SŽDC se posune termín realizace, podá se do nové výzvy zno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096920" y="3573360"/>
          <a:ext cx="7740720" cy="3210120"/>
        </p:xfrm>
        <a:graphic>
          <a:graphicData uri="http://schemas.openxmlformats.org/drawingml/2006/table">
            <a:tbl>
              <a:tblPr/>
              <a:tblGrid>
                <a:gridCol w="1935360"/>
                <a:gridCol w="1935000"/>
                <a:gridCol w="1935000"/>
                <a:gridCol w="1935360"/>
              </a:tblGrid>
              <a:tr h="37080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E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d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P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igentní zastáv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P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ýšení bezpečnosti cestujících v autobus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P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ečin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ravuje se žád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02:14Z</dcterms:created>
  <dc:creator>andrusczynová</dc:creator>
  <dc:description/>
  <dc:language>en-US</dc:language>
  <cp:lastModifiedBy>Karp</cp:lastModifiedBy>
  <dcterms:modified xsi:type="dcterms:W3CDTF">2017-10-17T07:23:18Z</dcterms:modified>
  <cp:revision>245</cp:revision>
  <dc:subject/>
  <dc:title>Snímek 1</dc:title>
</cp:coreProperties>
</file>