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478-8642-405A-840D-624F2DE6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D00-1654-4D5B-B4EF-60C62B19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ED6-EFCF-4208-B51C-4F672929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9C5-C3CB-4520-8B92-E067BB43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C62-42EC-4F41-B8C1-D5327FA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A7D-1420-4999-8D5A-74A62A9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775-EDBB-4022-9E19-282D42E5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16F-BC5A-4BF7-A80F-C9051542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D59-7BF4-49ED-8DA8-74A0C5E7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7BB-7715-49D2-B049-F4E86465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A6E-A9A3-448A-960F-19885E3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143-3C62-4BD5-9A40-62405339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1A3E-7654-4DE8-A58C-4AEA55C512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.kulhanek@mmkv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ffffff"/>
                </a:solidFill>
                <a:latin typeface="HelveticaNeueLT Pro 67 MdCn"/>
              </a:rPr>
              <a:t>Integrovaný plán rozvoje území</a:t>
            </a:r>
            <a:br>
              <a:rPr sz="4900"/>
            </a:br>
            <a:r>
              <a:rPr b="1" lang="cs-CZ" sz="4900" spc="-1" strike="noStrike">
                <a:solidFill>
                  <a:srgbClr val="ffffff"/>
                </a:solidFill>
                <a:latin typeface="HelveticaNeueLT Pro 67 MdCn"/>
              </a:rPr>
              <a:t>Karlovy Vary</a:t>
            </a: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3886200"/>
            <a:ext cx="6481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67 MdCn"/>
              </a:rPr>
              <a:t>Regionální stálá konference Karlovarského kr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HelveticaNeueLT Pro 47 LtCn"/>
              </a:rPr>
              <a:t>24. 2. 2017, Krajský úřad Karlovarského kr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Klíčové momenty IPRÚ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ředložena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Zpráva o plnění IPRÚKV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° za 1. (zkrácené) pololetí realiza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zveřejněno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Vypořádání podmínek vyplývajících z procesu S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zveřejněn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Operační manuá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zpracována </a:t>
            </a: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Zpráva o řízení rizik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podstatné riziko ztráty zájmu subjektů v aglomeraci o integrované projekty (= nedostatečná absorpční kapacita oproti původnímu průzkum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neplnění indikátorů (milníku k r. 2018 = ztráta rezervace části aloka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neplnění harmonogramu (čerpání v letech = ztráta rezervace části aloka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105228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HelveticaNeueLT Pro 67 MdCn"/>
              </a:rPr>
              <a:t>Děkuji za pozornost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050560" y="3284640"/>
            <a:ext cx="57214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67 MdCn"/>
              </a:rPr>
              <a:t>Ing. Petr Kulhán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HelveticaNeueLT Pro 67 MdCn"/>
                <a:hlinkClick r:id="rId1"/>
              </a:rPr>
              <a:t>p.kulhanek@mmkv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S:\OLKV\Andrusczynová - záloha\externi_p\LOGA\KV_nové-logo\prezentace\prezentace1.jpg"/>
          <p:cNvPicPr/>
          <p:nvPr/>
        </p:nvPicPr>
        <p:blipFill>
          <a:blip r:embed="rId2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Aktuální stav IPRÚ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ředložení IPRÚKV° k hodnocení: 05.02.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hodnocení IPRÚKV° na MMR (Odbor regionální politiky) a na příslušných řídicích orgánech (IROP – MMR, OPZ – MPSV, OPD – MD): únor – červenec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součástí procesu hodnocení bylo vypořádání připomí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HelveticaNeueLT Pro 47 LtCn"/>
              </a:rPr>
              <a:t>vydání akceptačních dopisů Řídicími orgá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OPD: 23.08.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OPZ: 26. 8.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IROP: 31.08.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schválení finální verze po zapracování změn integrované strategie Zastupitelstvem města Karlovy Vary na základě připomínek v procesu hodnocení: 06.09.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Aktuální stav IPRÚ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oficiální spuštění realizace: 10.10.2017 (registrace akceptačních dopisů v MS2014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celkový rozpočet IPRÚKV°: 1.378.895.340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HelveticaNeueLT Pro 47 LtCn"/>
              </a:rPr>
              <a:t>z toho příspěvek Unie: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HelveticaNeueLT Pro 47 LtCn"/>
              </a:rPr>
              <a:t>1.305.100.000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IROP: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1.141.100.000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OPZ: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  118.999.999 Kč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OPD: 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    45.000.010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ravá složená závorka 1"/>
          <p:cNvSpPr/>
          <p:nvPr/>
        </p:nvSpPr>
        <p:spPr>
          <a:xfrm>
            <a:off x="5435640" y="425772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295280"/>
              <a:gd name="textAreaBottom" fmla="*/ 1289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délník 2"/>
          <p:cNvSpPr/>
          <p:nvPr/>
        </p:nvSpPr>
        <p:spPr>
          <a:xfrm>
            <a:off x="5904000" y="4365720"/>
            <a:ext cx="28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+ příslušný příspěvek státního rozpoč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(podle typu žad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Aktuální stav IPRÚ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od září příprava výzev nositele IPR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extrémní zpožďování při schvalování výzev u ŘO IR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řešeno na celostátní úrovni (primátoři měst IPRÚ a I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proto se do konce roku podařilo vyhlásit jen 2 výzvy z OP Zaměstna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aktuálně jsou vyhlášeny 3 výzvy I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čeká se na schválení dalších výzev IROP, bezprostředně po schválení řídicím orgánem budou vyhláš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výzvy OP Doprava jsou plánovány v souladu s harmonogramem IPRÚKV° až na konec roku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Ukončené výzvy nosite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079640" y="1397160"/>
          <a:ext cx="7740360" cy="4937040"/>
        </p:xfrm>
        <a:graphic>
          <a:graphicData uri="http://schemas.openxmlformats.org/drawingml/2006/table">
            <a:tbl>
              <a:tblPr/>
              <a:tblGrid>
                <a:gridCol w="755640"/>
                <a:gridCol w="1512720"/>
                <a:gridCol w="792360"/>
                <a:gridCol w="3132000"/>
                <a:gridCol w="1547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.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atření IP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ázev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v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.2 Zaměstn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řízení a podpora vzniku nových pracovních míst v oblastech přispívajících ke zvýšení atraktivity prostřed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ončena, předloženy 3 záměry, všechny staženy žadatelem, bude vyhlášena výzva n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.1 Sociální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oj komplexního systému restartu rodin (jednotlivců) na pokraji sociální exkluze a realizace sociální prev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ončena, předloženy 2 záměry, posunuty na Řídicí výbor 10.03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Probíhající výzvy nosite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79640" y="1397160"/>
          <a:ext cx="7740360" cy="2560320"/>
        </p:xfrm>
        <a:graphic>
          <a:graphicData uri="http://schemas.openxmlformats.org/drawingml/2006/table">
            <a:tbl>
              <a:tblPr/>
              <a:tblGrid>
                <a:gridCol w="755640"/>
                <a:gridCol w="1512720"/>
                <a:gridCol w="792360"/>
                <a:gridCol w="3132000"/>
                <a:gridCol w="1547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.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atření IP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ázev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v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1.1 Pamá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nova hmotného kulturního dědictví a historických objekt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íhá do 06.03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3.1 Sil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konstrukce a modernizace silnic III. tří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íhá do 06.03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2.1 Cyklo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klo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íhá do 06.03.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Připravované výzvy nosite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079640" y="1397160"/>
          <a:ext cx="7740360" cy="4937040"/>
        </p:xfrm>
        <a:graphic>
          <a:graphicData uri="http://schemas.openxmlformats.org/drawingml/2006/table">
            <a:tbl>
              <a:tblPr/>
              <a:tblGrid>
                <a:gridCol w="755640"/>
                <a:gridCol w="1512720"/>
                <a:gridCol w="792360"/>
                <a:gridCol w="3132000"/>
                <a:gridCol w="1547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.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atření IP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ázev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zná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.2 Zaměstn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řízení a podpora vzniku nových pracovních míst v oblastech přispívajících ke zvýšení atraktivity prostřed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výzva v B2.2 (po stažení záměrů žadatel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2.2</a:t>
                      </a:r>
                      <a:br>
                        <a:rPr sz="1800"/>
                      </a:b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zový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zy veřejné hromadné dopra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igentní dopravní systé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1.3 Termin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tupní terminály veřejné dopra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2.1 Infrastruktura soc. služ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pro terénní a ambulantní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Připravované výzvy nosite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079640" y="1397160"/>
          <a:ext cx="7740360" cy="4663800"/>
        </p:xfrm>
        <a:graphic>
          <a:graphicData uri="http://schemas.openxmlformats.org/drawingml/2006/table">
            <a:tbl>
              <a:tblPr/>
              <a:tblGrid>
                <a:gridCol w="755640"/>
                <a:gridCol w="1512720"/>
                <a:gridCol w="792360"/>
                <a:gridCol w="3132000"/>
                <a:gridCol w="1547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.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atření IP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ázev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zná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2.2 Sociální bydl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bydl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ladní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bře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2.1 Infrastruktura soc. služ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áněné bydl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a zář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hé a další kolo předchozích výzev + OP Doprava (A1.2 Vertikální doprava) – v následujících let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6120"/>
            <a:ext cx="8028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Řídicí výbor IPRÚ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1. řádné jednání (04.03.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statut, jednací řád, předseda ŘV, manažer IPR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1. hlasování per rollam (19.08.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zapracování připomínek z hodnoticího proce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2. řádné jednání (15.09.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etický kodex, memorandum s KPSVL, plán výz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2. hlasování per rollam (19.12.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interní operační manuál, výzvy č. 1 a 2, plán výz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3. hlasování per rollam (13.02.20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zpráva o plnění IPRÚ, zpráva o řízení rizik, výzvy č. 3, 4,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3. řádné jednání (bude 10.03.20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projekty z výzvy č. 2, výzva č. 6, příp. dalš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02:14Z</dcterms:created>
  <dc:creator>andrusczynová</dc:creator>
  <dc:description/>
  <dc:language>en-US</dc:language>
  <cp:lastModifiedBy>jelena.kriegelsteinova</cp:lastModifiedBy>
  <dcterms:modified xsi:type="dcterms:W3CDTF">2017-02-22T07:48:57Z</dcterms:modified>
  <cp:revision>233</cp:revision>
  <dc:subject/>
  <dc:title>Snímek 1</dc:title>
</cp:coreProperties>
</file>