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2AC-82D6-4998-8D02-DFAE09CA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BD2-CD4E-47B4-9756-16DDB8B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112-EA0C-4E0D-BE9E-E30684C5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AE1-0299-4976-AFAB-ED36DA5B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75E-0972-4148-AEFD-110B136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109-9E60-43E6-BB0F-67C1D7A5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863-9E80-4D18-B865-87CC57D1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229-13F9-4E38-9DE5-A25ED7C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B16-262A-42A2-A421-FCF19CA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D36-0D57-427A-A902-701D2290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217-8087-4F94-B644-1E5DA751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D1B-4593-43A3-873D-2CD3EDB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2D23-D27E-4CA9-8108-C95CA85507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ffffff"/>
                </a:solidFill>
                <a:latin typeface="HelveticaNeueLT Pro 67 MdCn"/>
              </a:rPr>
              <a:t>Integrovaný plán rozvoje území</a:t>
            </a:r>
            <a:br>
              <a:rPr sz="4900"/>
            </a:br>
            <a:r>
              <a:rPr b="1" lang="cs-CZ" sz="4900" spc="-1" strike="noStrike">
                <a:solidFill>
                  <a:srgbClr val="ffffff"/>
                </a:solidFill>
                <a:latin typeface="HelveticaNeueLT Pro 67 MdCn"/>
              </a:rPr>
              <a:t>Karlovy Vary</a:t>
            </a: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61930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67 MdCn"/>
              </a:rPr>
              <a:t>Regionální stálá konference Karlovarského kr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HelveticaNeueLT Pro 47 LtCn"/>
              </a:rPr>
              <a:t>23. 06.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Strategie IPRÚ</a:t>
            </a:r>
            <a:r>
              <a:rPr b="0" lang="cs-CZ" sz="4800" spc="-1" strike="noStrike">
                <a:solidFill>
                  <a:srgbClr val="cc0000"/>
                </a:solidFill>
                <a:latin typeface="HelveticaNeueLT Pro 67 MdCn"/>
              </a:rPr>
              <a:t>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ffffff"/>
              </a:solidFill>
              <a:latin typeface="HelveticaNeueLT Pro 47 LtCn"/>
            </a:endParaRPr>
          </a:p>
        </p:txBody>
      </p:sp>
      <p:pic>
        <p:nvPicPr>
          <p:cNvPr id="77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21294" t="23396" r="15849" b="7018"/>
          <a:stretch/>
        </p:blipFill>
        <p:spPr>
          <a:xfrm>
            <a:off x="1187280" y="1557360"/>
            <a:ext cx="771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b0f0"/>
                </a:solidFill>
                <a:latin typeface="HelveticaNeueLT Pro 67 MdCn"/>
              </a:rPr>
              <a:t>Sociální stabilita: indiká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109520" y="1628640"/>
          <a:ext cx="7796520" cy="3402000"/>
        </p:xfrm>
        <a:graphic>
          <a:graphicData uri="http://schemas.openxmlformats.org/drawingml/2006/table">
            <a:tbl>
              <a:tblPr/>
              <a:tblGrid>
                <a:gridCol w="798480"/>
                <a:gridCol w="5904000"/>
                <a:gridCol w="1094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kátor výstu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ílová hodn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napsaných a zveřejněných analytických a strategických dokument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ý počet účastní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projektů, které zcela nebo zčásti provádějí sociální partneři nebo 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acita podpořených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poskytovaných druhů sociálních služ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podpořených zázemí pro služby a sociální prá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HelveticaNeueLT Pro 67 MdCn"/>
              </a:rPr>
              <a:t>Sociální stabilita: financ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42560" y="836640"/>
            <a:ext cx="8101080" cy="602136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údaje v tis.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IROP dotace celkem: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69 199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OPZ dotace celkem: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26 291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SOUHRN: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95 490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079640" y="1916280"/>
          <a:ext cx="7885080" cy="1839600"/>
        </p:xfrm>
        <a:graphic>
          <a:graphicData uri="http://schemas.openxmlformats.org/drawingml/2006/table">
            <a:tbl>
              <a:tblPr/>
              <a:tblGrid>
                <a:gridCol w="1314360"/>
                <a:gridCol w="954000"/>
                <a:gridCol w="1673280"/>
                <a:gridCol w="1314360"/>
                <a:gridCol w="1314360"/>
                <a:gridCol w="131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l. zdr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Aktuální stav IPRÚ</a:t>
            </a:r>
            <a:r>
              <a:rPr b="0" lang="cs-CZ" sz="4800" spc="-1" strike="noStrike">
                <a:solidFill>
                  <a:srgbClr val="cc0000"/>
                </a:solidFill>
                <a:latin typeface="HelveticaNeueLT Pro 67 MdCn"/>
              </a:rPr>
              <a:t>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výzva na předkládání žádostí o podporu strategií Integrovaných plánů rozvoje území vyhlášena 26.11.2015, možnost vkládání do ISKP14+ od 01.01.2016 do 28.02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IPRÚKV° schváleno v Zastupitelstvu města dne 22.12.2015 usnesením č. ZM/451/12/15, vč. stanoviska SEA a ustavení Ř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žádost vložena do ISKP14+, zfinalizována, digitálně podepsána a odeslána k hodnocení dne 05.02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průběh hodnocen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kontrola formálních náležitostí a přijatelnosti: MMR – ORP s využitím externích – 40 PD, v případě nedostatků vyzvánění k doplnění ve lhůtě 10 PD (max. 3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věcné hodnocení: jednotlivé ŘO OP v hodnoticích komisích – 30 PD, v případě „Ano s výhradou“ jednání velké komise a následné požadavky na úpravy ve lhůtě 20 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Plán dalšího postupu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apracování připomínek vzešlých z procesu hodnoc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vzhledem k nastaveným termínům budou zapracovány požadavky a až po zapracování všech připomínek bude upravený dokument integrované strategie znovu předložen Zastupitelstvu města ke schválení – před podpisem tzv. akceptačních dopisů Řídicích orgánů operačních progra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ahájení intenzivní činnosti tematických koordinátorů – zajištění absorpční kapa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dopracování interního operačního manuá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HelveticaNeueLT Pro 47 LtCn"/>
              </a:rPr>
              <a:t>zpracování plánu výz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492280"/>
            <a:ext cx="640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HelveticaNeueLT Pro 67 MdCn"/>
              </a:rPr>
              <a:t>Děkuji za pozornost</a:t>
            </a:r>
            <a:br>
              <a:rPr sz="44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HelveticaNeueLT Pro 67 MdCn"/>
              </a:rPr>
              <a:t>Tomáš Sýkora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0560" y="3284640"/>
            <a:ext cx="57214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b0f0"/>
                </a:solidFill>
                <a:latin typeface="HelveticaNeueLT Pro 67 MdCn"/>
              </a:rPr>
              <a:t>Karlovarská aglome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848720" cy="554508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1"/>
          <p:cNvSpPr/>
          <p:nvPr/>
        </p:nvSpPr>
        <p:spPr>
          <a:xfrm>
            <a:off x="1116000" y="6342120"/>
            <a:ext cx="359712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7 obcí v okolí Karlových Va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Strategie IPRÚ</a:t>
            </a:r>
            <a:r>
              <a:rPr b="0" lang="cs-CZ" sz="4800" spc="-1" strike="noStrike">
                <a:solidFill>
                  <a:srgbClr val="cc0000"/>
                </a:solidFill>
                <a:latin typeface="HelveticaNeueLT Pro 67 MdCn"/>
              </a:rPr>
              <a:t>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21313" t="23770" r="15553" b="6250"/>
          <a:stretch/>
        </p:blipFill>
        <p:spPr>
          <a:xfrm>
            <a:off x="93600" y="1125360"/>
            <a:ext cx="9015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Strategie IPRÚ</a:t>
            </a:r>
            <a:r>
              <a:rPr b="0" lang="cs-CZ" sz="4800" spc="-1" strike="noStrike">
                <a:solidFill>
                  <a:srgbClr val="cc0000"/>
                </a:solidFill>
                <a:latin typeface="HelveticaNeueLT Pro 67 MdCn"/>
              </a:rPr>
              <a:t>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ffffff"/>
              </a:solidFill>
              <a:latin typeface="HelveticaNeueLT Pro 47 LtCn"/>
            </a:endParaRPr>
          </a:p>
        </p:txBody>
      </p:sp>
      <p:pic>
        <p:nvPicPr>
          <p:cNvPr id="5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rcRect l="19830" t="14542" r="11942" b="13332"/>
          <a:stretch/>
        </p:blipFill>
        <p:spPr>
          <a:xfrm>
            <a:off x="900000" y="1628640"/>
            <a:ext cx="81741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b0f0"/>
                </a:solidFill>
                <a:latin typeface="HelveticaNeueLT Pro 67 MdCn"/>
              </a:rPr>
              <a:t>Udržitelná doprava: indiká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560" y="836640"/>
            <a:ext cx="8101080" cy="602136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084320" y="1052640"/>
          <a:ext cx="7796160" cy="4343400"/>
        </p:xfrm>
        <a:graphic>
          <a:graphicData uri="http://schemas.openxmlformats.org/drawingml/2006/table">
            <a:tbl>
              <a:tblPr/>
              <a:tblGrid>
                <a:gridCol w="669960"/>
                <a:gridCol w="5976720"/>
                <a:gridCol w="11494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kátor výstu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ílová hodn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zařízení a služeb pro řízení doprav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realizací vedoucích ke zvýšení bezpečnosti v doprav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nových nebo rekonstruovaných přestupních terminá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ka rekonstruovaných cyklostezek a cyklo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ka nově vybudovaných cyklostezek a cyklo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7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nově pořízených vozidel pro veřejnou dopr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délka rekonstruovaných nebo modernizovaných sil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parkovacích míst pro jízdní 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vytvořených parkovacích mí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délka rekonstruovaných tra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HelveticaNeueLT Pro 67 MdCn"/>
              </a:rPr>
              <a:t>Udržitelná doprava: financ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560" y="836640"/>
            <a:ext cx="8101080" cy="602136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údaje v tis.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IROP dotace celkem: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635 312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OPD dotace celkem: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  47 647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SOUHRN: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682 959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101600" y="1773360"/>
          <a:ext cx="7885080" cy="2950920"/>
        </p:xfrm>
        <a:graphic>
          <a:graphicData uri="http://schemas.openxmlformats.org/drawingml/2006/table">
            <a:tbl>
              <a:tblPr/>
              <a:tblGrid>
                <a:gridCol w="1314720"/>
                <a:gridCol w="954000"/>
                <a:gridCol w="1673280"/>
                <a:gridCol w="1314360"/>
                <a:gridCol w="1314360"/>
                <a:gridCol w="1314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l. zdr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2 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 5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 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6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D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b0f0"/>
                </a:solidFill>
                <a:latin typeface="HelveticaNeueLT Pro 67 MdCn"/>
              </a:rPr>
              <a:t>Strategie IPRÚ</a:t>
            </a:r>
            <a:r>
              <a:rPr b="0" lang="cs-CZ" sz="4800" spc="-1" strike="noStrike">
                <a:solidFill>
                  <a:srgbClr val="cc0000"/>
                </a:solidFill>
                <a:latin typeface="HelveticaNeueLT Pro 67 MdCn"/>
              </a:rPr>
              <a:t>KV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ffffff"/>
              </a:solidFill>
              <a:latin typeface="HelveticaNeueLT Pro 47 LtCn"/>
            </a:endParaRPr>
          </a:p>
        </p:txBody>
      </p:sp>
      <p:pic>
        <p:nvPicPr>
          <p:cNvPr id="65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rcRect l="15862" t="24498" r="11045" b="6845"/>
          <a:stretch/>
        </p:blipFill>
        <p:spPr>
          <a:xfrm>
            <a:off x="1079640" y="1916280"/>
            <a:ext cx="78483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b0f0"/>
                </a:solidFill>
                <a:latin typeface="HelveticaNeueLT Pro 67 MdCn"/>
              </a:rPr>
              <a:t>Ekonomický potenciál: indiká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42560" y="1125360"/>
            <a:ext cx="8101080" cy="573264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079640" y="1557360"/>
          <a:ext cx="7796160" cy="3403440"/>
        </p:xfrm>
        <a:graphic>
          <a:graphicData uri="http://schemas.openxmlformats.org/drawingml/2006/table">
            <a:tbl>
              <a:tblPr/>
              <a:tblGrid>
                <a:gridCol w="828360"/>
                <a:gridCol w="5904000"/>
                <a:gridCol w="106380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kátor výstu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ílová hodn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 row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nově revitalizovaných památkových objekt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realizací rozvoje infrastrukturních opat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ýšení očekávaného počtu návštěv podporovaných kulturních a přírodních pamá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podpořených vzdělávacích zaříz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acita podporovaných zařízení péče o děti nebo vzdělávacích zaříz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ý počet účastní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HelveticaNeueLT Pro 67 MdCn"/>
              </a:rPr>
              <a:t>Ekonomický potenciál: financ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42560" y="836640"/>
            <a:ext cx="8101080" cy="602136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HelveticaNeueLT Pro 47 LtCn"/>
              </a:rPr>
              <a:t>údaje v tis. K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IROP dotace celkem: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496 702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OPZ dotace celkem: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HelveticaNeueLT Pro 47 LtCn"/>
              </a:rPr>
              <a:t>100 744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SOUHRN: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HelveticaNeueLT Pro 47 LtCn"/>
              </a:rPr>
              <a:t>597 446 tis.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S:\OLKV\Andrusczynová - záloha\externi_p\LOGA\KV_nové-logo\prezentace\prezentace1.jpg"/>
          <p:cNvPicPr/>
          <p:nvPr/>
        </p:nvPicPr>
        <p:blipFill>
          <a:blip r:embed="rId1"/>
          <a:stretch/>
        </p:blipFill>
        <p:spPr>
          <a:xfrm>
            <a:off x="0" y="0"/>
            <a:ext cx="1079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079640" y="1955880"/>
          <a:ext cx="7885080" cy="1473120"/>
        </p:xfrm>
        <a:graphic>
          <a:graphicData uri="http://schemas.openxmlformats.org/drawingml/2006/table">
            <a:tbl>
              <a:tblPr/>
              <a:tblGrid>
                <a:gridCol w="1314360"/>
                <a:gridCol w="954000"/>
                <a:gridCol w="1673280"/>
                <a:gridCol w="1314360"/>
                <a:gridCol w="1314360"/>
                <a:gridCol w="131472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 IP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l. zdr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 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P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Z 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9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 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02:14Z</dcterms:created>
  <dc:creator>andrusczynová</dc:creator>
  <dc:description/>
  <dc:language>en-US</dc:language>
  <cp:lastModifiedBy>jelena.kriegelsteinova</cp:lastModifiedBy>
  <dcterms:modified xsi:type="dcterms:W3CDTF">2016-07-15T12:47:08Z</dcterms:modified>
  <cp:revision>215</cp:revision>
  <dc:subject/>
  <dc:title>Snímek 1</dc:title>
</cp:coreProperties>
</file>